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6D2B-2A3A-4B15-854F-C266204F6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8F04-DEE6-48EF-A7D3-3F83EEAEC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6B33-C134-4E76-A3C6-7F1386216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DD2F-8015-48CC-A717-715659CE4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D572-2E25-44ED-8C26-809050F3C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A0B1-E89D-4D06-8397-F53BD7571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090-732A-4ACC-9CE6-6366C593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DEB-8B95-49AD-BA18-35ACE16D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2C0-6E08-421D-AEBC-2664836D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D85-06AB-4482-A80E-52C5E731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9E7-29C2-450A-BF14-E3C86F9F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A1A-2C3F-40F5-B593-DD0C7491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D46-A7F3-45DB-B931-ADE3B668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F29-6845-4B24-9BCB-E911BF6A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9E2-AAE7-418F-A100-45813466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405-380E-42BC-AC3D-98EB7CF3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DE6-D011-4B5D-B2A5-4E7CA5F4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752-29BB-404D-A553-2ACDD417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6851-ACF7-405E-BE36-1A59F72CDC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2(Rough Outlin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strike, we still have not been able to go through all of our s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start with looking at student work and talk about responding in the mo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ant participants to work on a problem in tri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does the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responds to that “student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ne records, considers the response and repo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Problem for  participants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n average highway speed to drive (in kilometres/hou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 a distance that is not a multiple of th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how many minutes it would take you to drive your distance at your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469b"/>
                </a:solidFill>
                <a:latin typeface="Arial"/>
              </a:rPr>
              <a:t>Possible problem choices (not for sure yet)</a:t>
            </a:r>
            <a:endParaRPr b="0" lang="en-US" sz="5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s leave a parking lot through two ex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only used Exit A, it would take 1 hour to empty a full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only used Exit B, it would take 1.5 hours to empty a full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would it take to empty a full lot using both ex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469b"/>
                </a:solidFill>
                <a:latin typeface="Arial"/>
              </a:rPr>
              <a:t>Possible problem choices (not for sure yet)</a:t>
            </a:r>
            <a:endParaRPr b="0" lang="en-US" sz="5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6:21:22Z</dcterms:created>
  <dc:creator>PSteele</dc:creator>
  <dc:description/>
  <dc:language>en-US</dc:language>
  <cp:lastModifiedBy>Marian Small</cp:lastModifiedBy>
  <dcterms:modified xsi:type="dcterms:W3CDTF">2011-06-29T17:12:55Z</dcterms:modified>
  <cp:revision>269</cp:revision>
  <dc:subject/>
  <dc:title>Slide 1</dc:title>
</cp:coreProperties>
</file>